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C72-E4B6-4F30-9D99-759D6CF8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F43-E27D-4E47-B9F3-1061E1F3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5AE1E-3F60-4C77-9F2F-82E7726B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9E99D-CD50-4484-8136-C3237096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22A28-3464-44A2-ABA0-2BBC07EE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99BEE-99C4-4ABA-8A7F-24DB1E68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D2D8B-70F4-439C-AFB1-F2BF0377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E72CD-6386-4182-A617-5ECBF679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7EEA3-4642-44EE-A2F3-2D69AAA6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139C0-7367-4EE6-8692-94277ACB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F26C9-BAC1-486A-B0C7-60997AE6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D3277-246C-4B91-9002-EB13E750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8ED-4570-4CB5-BAFA-64385E7D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62F56-626C-4539-ADD1-BA6D533A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EB876-1CB6-406E-9CE8-074101D3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873EF-EBAE-4ABF-86EB-96316CDD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75DAE-C0CA-41B1-B55E-7DCEC34B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C3E7E-120F-45B8-83B4-87AC79E4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874F4-19E9-46AA-A945-E70C356E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C4777-0237-4C99-8050-C3656481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45D43-8D29-4A05-BC37-E7653A27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0D4E0-0006-4C96-81A5-19898149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4366D-20EE-4118-9173-1780DF3A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D8B-709E-4C44-B06F-D91F3F97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A3D8F-E69F-4183-937F-A98B4A6A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7150-CCC9-42D2-80C2-C068EF25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95CA-B35A-4BBF-A4FB-A59D844B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B63C-92EA-4768-AFF2-39EE18DC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BB05-11A8-4849-812C-9610605F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8381-C86F-42EB-B83E-55AB2B44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2616-EE68-4F82-BEC5-F76FBDEA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67C0-393C-444F-B022-1ED1D8EC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DBD-ECF0-4700-AAE1-8444B807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4EE5-0E4F-4F42-AB78-107D2E94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38E8-7985-495D-B70E-628A6398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C0A5-9B6A-46E3-936D-EC694868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06B4-557A-4837-85D5-740928A1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943B-9E08-41C7-8FBB-154268D7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BA76F-D080-466D-8488-0DEA0DB6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68776-6D60-40EE-B1E2-10C7FB77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BD7CF-2393-4970-801F-A5013830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7409C-A2DE-4A55-8BF7-8DE03A10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0B388-B3D1-4313-BBB9-9AD995F2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636-C3C1-4496-BDE4-BC3F97F6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63167-FDD7-4AB0-A51E-F84ADC3E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26B6C-B2FE-470B-A132-0A136D91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2EF71-65C9-4A0E-9D33-3A32FED0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6C29D-461E-40FD-B046-8F85D02E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642BC-24D0-4C6B-85AB-BF5C22EE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6587E-6843-489C-9371-7CEE8D73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B1886-2D24-4572-A847-C5A1216E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A25C8-E44B-4678-AE31-72701A93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1E969-A0AE-466E-905C-682B3DC1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BA261-257F-4528-8A61-3A29EF2D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132-7654-491E-BB83-B5DA1067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75620-9D89-44E1-824D-74F5CB41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362A0C-C00C-46DF-A436-54A9A283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232D14-BEDD-4B4D-9FAA-6E5BCB69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75089-01FA-47C8-8CAE-081BDC91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BB406B-DE0B-4354-992A-67A35C4E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DE18F-7F55-470D-B304-8561A44C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B2E36-462F-45B6-AF35-42DBEE60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6740AB-0F5B-45F3-9BAE-B1ADFAAE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8D96D-3D61-493F-B03E-7F0EE1F5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03EF2-F151-4E32-A79D-713F31D7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A8E-31B8-445D-894C-D174B5F3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E912E-D6A1-4D01-88F4-829C879A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69AFE-E29C-46C2-89B3-0B7F85DB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68ED3-4181-4D91-9592-72B7A888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3D704-72C8-40D6-BD29-DA5E0DBE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F2A4C-6929-42AC-A461-10D621C5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58BAC-639F-47A8-B8C6-7E0EA771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255C8-A038-4404-AF5E-C24EC5CE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A1945-E758-4811-B768-34037552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A545F-6BC7-43F2-821A-C1A084ED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9DC8D-2632-40E8-AD37-C2040D29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C16-E49E-4E71-9D3B-A578E853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E1C2C-2158-49B0-9647-9F88F007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384CC-1D42-4515-AC60-25CEF42D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FB0C9-5475-463A-AAE0-FFF2A020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DE058-1471-4046-ACE9-ACDC91E8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AE80C-5883-4B93-8C1A-93ADC371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738BF-4289-4A50-B596-D3F96CBD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958CF-E318-4160-8F49-E9FEEB24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F425D-127D-457D-AAC0-3B3CE8AD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90D38-2F6E-4CB6-BE7C-6AC97280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4555F-5071-4677-9D23-595E5430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CB7-2614-42AD-B345-5E017DC0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D8E4D-3191-490E-B7CB-1606EFDF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8EA89-8A12-4F12-B2FC-16220DF0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02ED7-FC99-481F-9DF9-6ABF9570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C8D74-B9BF-4FF9-8364-FE867F56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54ACD-5906-4BCA-895B-03345FA3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44AB8-8212-475D-947E-41DB8E35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1201A-6FAA-41C5-B4FA-D0D4CFDA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AFBAD-9B6D-4070-8053-80A4CD7C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EC0CB-6894-4583-934B-2884047E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AA82C-D471-4249-BF6D-21DD7D7E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7BA-8031-4670-8AE2-26B66182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D48F8F-D67E-4600-B396-55137D2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6B287-F0F1-4287-BCF4-A2E31A0F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68487-68E1-4A32-A1A6-98E0665B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AE006E-816F-4101-9E3B-DD4CA51F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E05B4-C08A-45F0-A770-3F4AAF75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7789C-9E45-4072-8E12-C69B9736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95B23-1CE1-4924-8B94-71B38983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602D3-AD79-4496-A693-26725FF3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013EA-5BA9-418C-A006-4877112A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0CA6E-1FF7-4186-B68F-3728B299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5F4-BB0C-49C0-B456-F7C26FD9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34C58-22D6-4D7C-9AB2-5F5F3199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9AF4E-4B0C-4EA0-9373-194576BF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99B04-FCB8-474B-AF6E-75734C6B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52231-37AD-4895-904E-17B25143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16F3A-FAC1-450F-98B0-97E5090E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0E673-C7EA-4AFF-804C-BFE165BF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D2356-40F7-46C2-AD23-E1BC2F82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04311-64A0-4556-B987-359AD613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AE34B-CF17-4AA2-803A-AD89629F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D139E-A281-4FF9-B979-53E65394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0E1A-FFAA-48ED-BEBB-0E5BEFA6E9F2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DE57-042A-4976-88E1-C908AFB0C581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A30A-C0C7-4E9E-88E7-209F2CFBD659}" type="slidenum">
              <a:rPr b="1" lang="fa-IR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871A-3CF9-40FB-9A14-B96A01FA0BDE}" type="slidenum">
              <a:rPr b="1" lang="fa-I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5DA8-50BC-48F3-89E5-7BE73D8F2EF6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7E7B-EFD1-4BC1-A19E-9597C78AFF8A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6DE9-FD9B-453B-B62C-C3BBFDEB66B8}" type="slidenum">
              <a:rPr b="1" lang="fa-IR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A482-D572-416D-8667-556FEEBA42B5}" type="slidenum">
              <a:rPr b="1" lang="fa-I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01A1-EA73-4502-B7F0-3462C50889EE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C518-96A9-48D0-92ED-A8B13482C485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audio" Target="../media/camera.wav"/><Relationship Id="rId23" Type="http://schemas.openxmlformats.org/officeDocument/2006/relationships/audio" Target="../media/type.wav"/><Relationship Id="rId24" Type="http://schemas.openxmlformats.org/officeDocument/2006/relationships/audio" Target="../media/camera.wav"/><Relationship Id="rId25" Type="http://schemas.openxmlformats.org/officeDocument/2006/relationships/audio" Target="../media/type.wav"/><Relationship Id="rId26" Type="http://schemas.openxmlformats.org/officeDocument/2006/relationships/audio" Target="../media/camera.wav"/><Relationship Id="rId27" Type="http://schemas.openxmlformats.org/officeDocument/2006/relationships/audio" Target="../media/type.wav"/><Relationship Id="rId28" Type="http://schemas.openxmlformats.org/officeDocument/2006/relationships/audio" Target="../media/camera.wav"/><Relationship Id="rId29" Type="http://schemas.openxmlformats.org/officeDocument/2006/relationships/audio" Target="../media/type.wav"/><Relationship Id="rId30" Type="http://schemas.openxmlformats.org/officeDocument/2006/relationships/audio" Target="../media/camera.wav"/><Relationship Id="rId31" Type="http://schemas.openxmlformats.org/officeDocument/2006/relationships/audio" Target="../media/type.wav"/><Relationship Id="rId32" Type="http://schemas.openxmlformats.org/officeDocument/2006/relationships/audio" Target="../media/camera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428760" y="61437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A8FA-5E92-4E01-97AE-44363942851F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357200" y="1356840"/>
            <a:ext cx="6429600" cy="225756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برنامه ریزی استراتژیک </a:t>
            </a:r>
            <a:br>
              <a:rPr sz="4400"/>
            </a:b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مراحل و متدها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ارتباط برنامه جامع و عملیاتی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5CF0-F278-4754-876C-D5C5DB0988A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ابع ارزشها، ايدئولوژي، سياستها و استراتژي هاي حاكم بر سازمان است و بر عهده سياست مداران و مديران ارشد سازمان است و برنامه ريزي عملياتي در سطح مديريت اجرايي سازمان مطرح مي 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 پي حل مسايل اساسي، رشد و توسعه سازمان است. و برنامه ريزي عملياتي با هدف يا هدفهاي مشخص، محدود، عيني و دست يافتني، تنها متوجه بهترين كارآيي در خدمت يا توليد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وجه منافعي است كه احتمالا در آينده نصيب سازمان خواهد شد. و برنامه ريزي عملياتي متوجه منافع فعلي و در معرض ديد و يقين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7773-31B8-429A-9B97-4C046BF5185C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971640" y="404640"/>
          <a:ext cx="7383240" cy="6259680"/>
        </p:xfrm>
        <a:graphic>
          <a:graphicData uri="http://schemas.openxmlformats.org/drawingml/2006/table">
            <a:tbl>
              <a:tblPr/>
              <a:tblGrid>
                <a:gridCol w="3095640"/>
                <a:gridCol w="3097080"/>
                <a:gridCol w="1190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دراز مد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استراتژ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خصوصی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سته است و براساس برنامه هاي كوتاه مدت و طرح هاي داخل آن سيستم تدوين و توسعه مي ياب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از است و همانطور كه  جامعه تغيير مي كند سازمان نيز بايد تغيير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ض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طرح نهايي برنامه و تحليل داخلي آن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رايند برنامه ريزي، تعيين ماموريت، وضعيت محيط خارجي، ظرفيت سازي، آموزش كاركنان و جامع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مركز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داره، بخش، برنامه ريز يا افراد متخصص و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رفه أي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گروه كوچكي از برنامه ريزان و شركت وسيع افراد ذينفع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نامه ريزي 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درون سازماني، روشهاي برنامه ريزي درون سازماني است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برون سازماني، ارزشهاي سازماني و اقدامات پيشگامان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اكيد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ر اهداف دراز مدت و كوتاه مدت از حال تا پنج سال اينده تمركز دا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ئوال مي كند چه تصميماتي براساس درك موقعيت چند سال آينده متناسب با وضعيت حال اتخاذ مي گرد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ينده نگ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وعه أي از اطلاعات مرتبط بهم و مفصل سازماني و برنامه واحدهاي مختلف سازماني و نمايندگيهاي مربوط و توانايي انها و توانايي بودجه هاي جار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ميم گيري خلاق و بصيرت آميز، اين كه چگونه سازمان را براساس محيط در حال تغيير آينده هدايت كرد و كدام فرآيند سازماني قادر به اتخاذ بهترين تصميم و پيش بيني آينده است و مي توان براساس توافق همگاني عمل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توار است 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اسا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</a:tbl>
          </a:graphicData>
        </a:graphic>
      </p:graphicFrame>
      <p:sp>
        <p:nvSpPr>
          <p:cNvPr id="488" name="Rectangle 36"/>
          <p:cNvSpPr/>
          <p:nvPr/>
        </p:nvSpPr>
        <p:spPr>
          <a:xfrm>
            <a:off x="0" y="697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ويژگي‏هاي برنامه‏ريز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D5E1-841E-4415-A8DA-53459582D9C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85840" y="171468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تاثير عوامل خارجي توجه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نده‏نگ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عي برنامة بلندمدّت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يريت عالي مسئول آن 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مينة اساسي براي تمامي برنامه‏هاي ديگر در سطوح سازماني را ترسيم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جب هدايت تمامي سازمان مي‏ش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‏علت تجسم بهتر و دقيق آينده، امكان رسيدن به‏اهداف بيشت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ون برنامه‏ريزي عملياتي قابل اجرا ن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a2c00"/>
                </a:solidFill>
                <a:latin typeface="Times New Roman"/>
                <a:cs typeface="Times New Roman"/>
              </a:rPr>
              <a:t>در واقع برنامه‏ريزي استراتژيك به دو سوال پاسخ مي‏ده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231960" y="5638680"/>
            <a:ext cx="22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496e00"/>
              </a:buClr>
              <a:buSzPct val="110000"/>
              <a:buFont typeface="Wingdings 2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ه بايد بكن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4724280" y="579132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728160" y="5638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هد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268240" y="617220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buClr>
                <a:srgbClr val="496e00"/>
              </a:buClr>
              <a:buSzPct val="110000"/>
              <a:buFont typeface="Wingdings 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گونه بايد انجام ده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4724280" y="6324480"/>
            <a:ext cx="762120" cy="152640"/>
          </a:xfrm>
          <a:prstGeom prst="leftArrow">
            <a:avLst>
              <a:gd name="adj1" fmla="val 50000"/>
              <a:gd name="adj2" fmla="val 124823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3429720" y="6172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ستراتژ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مراحل فرآيند </a:t>
            </a:r>
            <a:r>
              <a:rPr b="1" lang="fa-IR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برنامه ریزی </a:t>
            </a: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7BA8-FE57-4566-965F-9881593DEC7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85520" y="2214360"/>
            <a:ext cx="7777080" cy="2514600"/>
          </a:xfrm>
          <a:prstGeom prst="rect">
            <a:avLst/>
          </a:prstGeom>
          <a:gradFill rotWithShape="0">
            <a:gsLst>
              <a:gs pos="0">
                <a:srgbClr val="fdfdc1"/>
              </a:gs>
              <a:gs pos="100000">
                <a:srgbClr val="fbfb99"/>
              </a:gs>
            </a:gsLst>
            <a:lin ang="2700000"/>
          </a:gradFill>
          <a:ln w="38160">
            <a:solidFill>
              <a:srgbClr val="333300"/>
            </a:solidFill>
            <a:miter/>
          </a:ln>
        </p:spPr>
        <p:txBody>
          <a:bodyPr anchor="ctr">
            <a:normAutofit/>
          </a:bodyPr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حليل، شناخت و هدف‏گذار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دوين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جراي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Implement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رزشيابي و كنترل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فرآيند مديريّت استراتژيك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ADD5-EE63-4CD4-ADC4-5E96625B74E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>
            <a:hlinkClick r:id="rId1" action="ppaction://hlinksldjump"/>
          </p:cNvPr>
          <p:cNvSpPr/>
          <p:nvPr/>
        </p:nvSpPr>
        <p:spPr>
          <a:xfrm>
            <a:off x="228600" y="1600200"/>
            <a:ext cx="609480" cy="6094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اف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و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5335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152280" y="2362320"/>
            <a:ext cx="76212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س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ذي‏نفع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91440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9051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2057400" y="2362320"/>
            <a:ext cx="15238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فلسفه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نقش و مأموريّ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هّدات و ارزش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35812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3733920" y="2362320"/>
            <a:ext cx="167616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كل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رقابت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داخ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54100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5562720" y="2362320"/>
            <a:ext cx="228600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فرصت‏ها و تهديد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نقاط قوّت و ضع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سائل استراتژي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>
            <a:off x="78487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8001000" y="2362320"/>
            <a:ext cx="10666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raffic"/>
              </a:rPr>
              <a:t>تجزيه و تحلي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raffic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5"/>
          <p:cNvCxnSpPr>
            <a:stCxn id="514" idx="2"/>
            <a:endCxn id="516" idx="0"/>
          </p:cNvCxnSpPr>
          <p:nvPr/>
        </p:nvCxnSpPr>
        <p:spPr>
          <a:xfrm rot="5400000">
            <a:off x="4409640" y="-552600"/>
            <a:ext cx="438840" cy="7811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Rectangle 16"/>
          <p:cNvSpPr/>
          <p:nvPr/>
        </p:nvSpPr>
        <p:spPr>
          <a:xfrm>
            <a:off x="152280" y="358128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مجد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أموريت 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هدا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12952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14479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نظيم گزينه‏ها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ختلف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28954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30481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و انتخ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يك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44956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4648320" y="3581280"/>
            <a:ext cx="12952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در آيند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3"/>
          <p:cNvSpPr/>
          <p:nvPr/>
        </p:nvSpPr>
        <p:spPr>
          <a:xfrm>
            <a:off x="594360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6095880" y="3352680"/>
            <a:ext cx="1295640" cy="1295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اولو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خصيص منا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صلاح ساخت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خط مش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و سبك رهب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AutoShape 25"/>
          <p:cNvCxnSpPr>
            <a:stCxn id="526" idx="2"/>
          </p:cNvCxnSpPr>
          <p:nvPr/>
        </p:nvCxnSpPr>
        <p:spPr>
          <a:xfrm rot="5400000">
            <a:off x="4137840" y="976320"/>
            <a:ext cx="448560" cy="7201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27" name="Line 26"/>
          <p:cNvSpPr/>
          <p:nvPr/>
        </p:nvSpPr>
        <p:spPr>
          <a:xfrm>
            <a:off x="76212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1066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چشم‏اندا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7543800" y="3581280"/>
            <a:ext cx="8380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فعّال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22860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جــر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0"/>
          <p:cNvSpPr/>
          <p:nvPr/>
        </p:nvSpPr>
        <p:spPr>
          <a:xfrm>
            <a:off x="121932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371600" y="502920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حصول نتاي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251460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266688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شي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2971800" y="3352680"/>
            <a:ext cx="0" cy="167652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>
            <a:off x="8534520" y="3276720"/>
            <a:ext cx="0" cy="160020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>
            <a:off x="2590920" y="4800600"/>
            <a:ext cx="0" cy="129528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8"/>
          <p:cNvSpPr/>
          <p:nvPr/>
        </p:nvSpPr>
        <p:spPr>
          <a:xfrm>
            <a:off x="152280" y="487692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9"/>
          <p:cNvSpPr/>
          <p:nvPr/>
        </p:nvSpPr>
        <p:spPr>
          <a:xfrm flipH="1">
            <a:off x="228600" y="22860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0"/>
          <p:cNvSpPr/>
          <p:nvPr/>
        </p:nvSpPr>
        <p:spPr>
          <a:xfrm>
            <a:off x="3461400" y="1913760"/>
            <a:ext cx="275940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حليل، شناخت و هدف‏گذ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1"/>
          <p:cNvSpPr/>
          <p:nvPr/>
        </p:nvSpPr>
        <p:spPr>
          <a:xfrm>
            <a:off x="2786400" y="5871240"/>
            <a:ext cx="71856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كنتر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2"/>
          <p:cNvSpPr/>
          <p:nvPr/>
        </p:nvSpPr>
        <p:spPr>
          <a:xfrm>
            <a:off x="739152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AutoShape 43"/>
          <p:cNvCxnSpPr/>
          <p:nvPr/>
        </p:nvCxnSpPr>
        <p:spPr>
          <a:xfrm>
            <a:off x="3048120" y="4876560"/>
            <a:ext cx="54871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3" name="Text Box 44"/>
          <p:cNvSpPr/>
          <p:nvPr/>
        </p:nvSpPr>
        <p:spPr>
          <a:xfrm>
            <a:off x="4467600" y="4652280"/>
            <a:ext cx="16696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دوين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AutoShape 45"/>
          <p:cNvCxnSpPr/>
          <p:nvPr/>
        </p:nvCxnSpPr>
        <p:spPr>
          <a:xfrm>
            <a:off x="152280" y="6019560"/>
            <a:ext cx="2439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5" name="Text Box 46"/>
          <p:cNvSpPr/>
          <p:nvPr/>
        </p:nvSpPr>
        <p:spPr>
          <a:xfrm>
            <a:off x="540000" y="5871240"/>
            <a:ext cx="17794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اجـراي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999D-8736-4BD0-AE9E-615ADA3BD4D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1908000" y="206064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77d9e8"/>
          </a:solid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حليل، شناخت و هدف‏گذ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4617b"/>
                </a:solidFill>
                <a:uFillTx/>
                <a:latin typeface="Tw Cen MT"/>
                <a:cs typeface="2  Esfehan"/>
              </a:rPr>
              <a:t>تحليل، شناخت و هدف‏گذار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BF31-CC6A-47D2-9BAC-0396DCC2544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99680" y="185688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0680" indent="-580680" algn="just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وضع موجو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مسائل استراتژيك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عوامل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فرصت‏ها و تهديدهاي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نقاط قوّت و ضعف درون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فرصت‏ها و تهديدهاي محيطي و نقاط قوّت و ضعف دروني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SWOT Analysis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ارزيابي مجدد مأموريت و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نظيم گزينه‏هاي مختلف استراتژ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ذينفع‏ها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keholders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8535-D269-4E9B-8408-F86D660C5FB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14240" y="200016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spcBef>
                <a:spcPts val="700"/>
              </a:spcBef>
              <a:buClr>
                <a:srgbClr val="080808"/>
              </a:buClr>
              <a:buSzPct val="12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w Cen MT"/>
                <a:ea typeface="Traffic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رد، گروه يا سازمان كه مي‏تواند بر سازمان تاثير گذارد و يا از آن تاثير بپذيرد و علاوه‏ بر اين‏كه در فرايند مديريت استراتژيك مي‏بايستي علائق آن‏ها در نظر گرفته شود، در فرايند برنامه‏ريزي استراتژيك نيز مي‏بايستي مشاركت داشته باش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ه ترتيب زي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شناسائي هم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اهميّت هر‏يك از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شخص كردن ديدگاه‏ها، معيار رضايت و اهداف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أثير آن‏ها بر برنامه‏هاي اجرائ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شناسائی مشتریان و نیازهای آنها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65A7-55DE-4F34-8741-F9147459E89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به سئوالات ذیل پاسخ دهید</a:t>
            </a:r>
            <a:r>
              <a:rPr b="1" lang="fa-IR" sz="2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خدمات را مصرف یا دریافت می کن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از عملکرد سازمان سود می برند ؟ 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خارج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داخل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کرد مناسب سازمان از نظر مشتریان چیست؟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یا سازمان دیگری وجود دارد که نیاز مشتریان را رفع کند؟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76a3"/>
                </a:solidFill>
                <a:uFillTx/>
                <a:latin typeface="Times New Roman"/>
                <a:cs typeface="Times New Roman"/>
              </a:rPr>
              <a:t>چشم‏انداز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BB1B-DB2B-4D40-A9E9-5BCE7CB586F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28240" y="1785960"/>
            <a:ext cx="86295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100" spc="-1" strike="noStrike" u="sng">
                <a:solidFill>
                  <a:srgbClr val="0076a3"/>
                </a:solidFill>
                <a:uFillTx/>
                <a:latin typeface="Tw Cen MT"/>
                <a:cs typeface="Titr"/>
              </a:rPr>
              <a:t>تعريف:</a:t>
            </a:r>
            <a:r>
              <a:rPr b="0" lang="ar-SA" sz="2100" spc="-1" strike="noStrike">
                <a:solidFill>
                  <a:srgbClr val="0076a3"/>
                </a:solidFill>
                <a:latin typeface="Tw Cen MT"/>
                <a:ea typeface="Titr Mazar"/>
              </a:rPr>
              <a:t> </a:t>
            </a:r>
            <a:r>
              <a:rPr b="1" lang="ar-SA" sz="21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شم‏انداز يعني آن‏چه كه در آرزوي دست‏يافتن به آن مي‏باشيم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شم‏انداز حالت آرماني داشته و كمّي نمي‏باشد و به سوال زير پاسخ مي‏ده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 rtl="1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آن‏چه مي‏خواهيم بشويم 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در بيان آن بايستي سه موضوع در نظر گرفته شو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قص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توجي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فايد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ضمناً موارد زير در نوشتن چشم‏انداز مي‏بايستي رعايت گردد</a:t>
            </a:r>
            <a:r>
              <a:rPr b="1" lang="fa-IR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آرزو روشن براي آينده در نظر گرفته شو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چالش‏برانگيز و معني‏دا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حكم ولي انعطاف‏پذي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ساده، كوتاه و به‏يادماندني باشد</a:t>
            </a:r>
            <a:r>
              <a:rPr b="1" i="1" lang="fa-IR" sz="2100" spc="-1" strike="noStrike">
                <a:solidFill>
                  <a:srgbClr val="0076a3"/>
                </a:solidFill>
                <a:latin typeface="Tw Cen MT"/>
                <a:ea typeface="Traffic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) </a:t>
            </a: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ديريّت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A1F6-D0D9-4DF8-9D38-AC301F92FAC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Oval 3"/>
          <p:cNvGrpSpPr/>
          <p:nvPr/>
        </p:nvGrpSpPr>
        <p:grpSpPr>
          <a:xfrm>
            <a:off x="658800" y="2041560"/>
            <a:ext cx="7497720" cy="3152880"/>
            <a:chOff x="658800" y="2041560"/>
            <a:chExt cx="7497720" cy="3152880"/>
          </a:xfrm>
        </p:grpSpPr>
        <p:pic>
          <p:nvPicPr>
            <p:cNvPr id="444" name="Oval 3" descr=""/>
            <p:cNvPicPr/>
            <p:nvPr/>
          </p:nvPicPr>
          <p:blipFill>
            <a:blip r:embed="rId1"/>
            <a:stretch/>
          </p:blipFill>
          <p:spPr>
            <a:xfrm>
              <a:off x="658800" y="2041560"/>
              <a:ext cx="749772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97120" y="2517840"/>
              <a:ext cx="5226120" cy="21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فرآيند انجام كارها به‏طور اثربخش و كار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2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به‏وسيله ديگر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        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دورنما </a:t>
            </a:r>
            <a:r>
              <a:rPr b="0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636640"/>
            <a:ext cx="34290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c931c"/>
                </a:solidFill>
                <a:latin typeface="Tw Cen MT"/>
                <a:ea typeface="Arial"/>
              </a:rPr>
              <a:t>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دامه رسالت و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چشم انداز به آینده ای است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که سازمان آرزو دار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500720" y="1700280"/>
          <a:ext cx="4038480" cy="3889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دورنم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رسال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بل تغیی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اب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ینده آرمان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لسفه وجود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عده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عهد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3430-0C99-422C-B630-552ABE10D34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ویژگی</a:t>
            </a:r>
            <a:r>
              <a:rPr b="1" lang="en-US" sz="4400" spc="-1" strike="noStrike">
                <a:solidFill>
                  <a:srgbClr val="0076a3"/>
                </a:solidFill>
                <a:latin typeface="Tw Cen MT"/>
              </a:rPr>
              <a:t> 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چشم انداز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752C-C712-4795-B8D5-80474535CB9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928880"/>
            <a:ext cx="82580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خلاص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درک، ساده و روش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لهام بخش و چالشی، آرمانی و ترغیب کننده برای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باور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راستای رسال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نقطه تفاهم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انعطا 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توصیف کننده خدمات آیند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نحوه تهیه چشم انداز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7520-1B71-454D-AA6D-826E512216E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71680" y="1915920"/>
            <a:ext cx="8115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a50021"/>
                </a:solidFill>
                <a:latin typeface="Tw Cen MT"/>
                <a:ea typeface="Arial"/>
              </a:rPr>
              <a:t>    </a:t>
            </a: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گرش عمیق اعضا بیان شود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1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در آینده بدنبال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2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چه تصمیماتی در آینده دار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3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آینده مطلوب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4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چه تصویری نسبت به مشتریان داری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5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کیفیت زندگی مشتریان چگونه ارتقا می یاب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6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بزرگترین فرصت ها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ission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4BB7-F021-48D9-AEFC-7F2B9BFBEF4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13880" y="1785960"/>
            <a:ext cx="80060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تعريف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رسالت يا مأموريّت معرّف علّت وجودي سازمان مي‏باشد و به دو سوال زير پاسخ مي‏ده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ه مي‏كنيم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ه خواهيم كرد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ة مأموريّت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Mission Statement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 2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9061c"/>
                </a:solidFill>
                <a:latin typeface="Times New Roman"/>
                <a:cs typeface="Times New Roman"/>
              </a:rPr>
              <a:t>در واقع بيانية مأموريّت مشروعيّت ايجاد و ادامة حيات سازمان را تبيين مي‏كند</a:t>
            </a:r>
            <a:r>
              <a:rPr b="1" lang="fa-IR" sz="2000" spc="-1" strike="noStrike">
                <a:solidFill>
                  <a:srgbClr val="0906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مثلأ</a:t>
            </a:r>
            <a:r>
              <a:rPr b="1" lang="ar-SA" sz="2000" spc="-1" strike="noStrike">
                <a:solidFill>
                  <a:srgbClr val="422db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443d08"/>
                </a:solidFill>
                <a:latin typeface="Times New Roman"/>
                <a:cs typeface="Times New Roman"/>
              </a:rPr>
              <a:t>مأموريّت سازمان‏هاي بهداشتي و درماني، حفظ و ارتقا وضع سلامت جامعه مي‏باشد</a:t>
            </a:r>
            <a:r>
              <a:rPr b="1" lang="fa-IR" sz="2000" spc="-1" strike="noStrike">
                <a:solidFill>
                  <a:srgbClr val="443d08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ه مأموريّت شامل اجزا زير مي‏باش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زمينة فعّاليّ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ت اهداف اصل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ارزش‏ها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Values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، باورها و نگرش (فلسفة سازماني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5A89-7B8A-4D6D-90ED-74BB1DD6BC9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62120" y="2209320"/>
            <a:ext cx="795816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فلسفة سازماني 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Organization Philosophy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Traff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نعكس كنن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ه</a:t>
            </a:r>
            <a:r>
              <a:rPr b="1" lang="ar-SA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باورها و ارزش‏ها و نگرش‏هاي اصلي سازمان است كه راهنمايي براي تصميم‏گيري مديران سازماني مي‏باش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6429240" y="4572000"/>
            <a:ext cx="2367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مات يا محصو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دودة جغرافي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4714920"/>
            <a:ext cx="44956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طه‏نظرات درارتباط با رشد و توسعة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سازم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اط قوي درو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6609240" y="39290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443d08"/>
                </a:solidFill>
                <a:uFillTx/>
                <a:latin typeface="Times New Roman"/>
                <a:cs typeface="Titr"/>
              </a:rPr>
              <a:t>عناصر بيانية مأمو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2748600" y="628164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cc3300"/>
                </a:solidFill>
                <a:latin typeface="Times New Roman"/>
                <a:cs typeface="Titr"/>
              </a:rPr>
              <a:t>بيانية مأموريّت بايد الهام‏بخش و برانگيزنده 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680" y="404280"/>
            <a:ext cx="6286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رسالت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MIS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2EA6-4AAB-4E8A-A81B-857E536B9DD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42960" y="1857240"/>
            <a:ext cx="81439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بیانیه جامع و مختصر از اهداف سازم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(سند عینی تلاش سازمان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ضرورت تهیه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دوین مقاصد مهم، روشن و مرتبط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بیین چارچوب اصلی برنامه ریزی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متعهد ساختن کارکنان به تحقق اهداف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جلب حمایت افراد خارج سازمان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c000"/>
                </a:solidFill>
                <a:latin typeface="Tw Cen MT"/>
                <a:cs typeface="Arial"/>
              </a:rPr>
              <a:t>ارزش ها</a:t>
            </a:r>
            <a:r>
              <a:rPr b="1" lang="en-US" sz="4400" spc="-1" strike="noStrike">
                <a:solidFill>
                  <a:srgbClr val="ffc000"/>
                </a:solidFill>
                <a:latin typeface="Tw Cen MT"/>
              </a:rPr>
              <a:t>VALUES</a:t>
            </a:r>
            <a:r>
              <a:rPr b="0" lang="en-US" sz="4400" spc="-1" strike="noStrike">
                <a:solidFill>
                  <a:srgbClr val="ffc000"/>
                </a:solidFill>
                <a:latin typeface="Tw Cen MT"/>
              </a:rPr>
              <a:t>       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56800" y="2142720"/>
            <a:ext cx="77770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اصولی که از نظر فردی و اجتماعی در سازمان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 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نوعی رفتار مناسب و برتر شمرده می شوندو در هر حال معیارهای ثابت سازمان برای تصمیم گیری ها هستند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000"/>
                </a:solidFill>
                <a:latin typeface="Tw Cen MT"/>
                <a:cs typeface="Arial"/>
              </a:rPr>
              <a:t>صداقت، رازداری ،رضایت گیرنده خدمت در همه جا</a:t>
            </a:r>
            <a:r>
              <a:rPr b="1" lang="fa-IR" sz="3200" spc="-1" strike="noStrike">
                <a:solidFill>
                  <a:srgbClr val="e2d700"/>
                </a:solidFill>
                <a:latin typeface="Tw Cen MT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4F2E-869B-4B0C-9D27-014D0B6E250A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کاربرد ارزش های سازمانی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B6F5-20D2-4E0C-B823-E639ECFEAFC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360" y="2214360"/>
            <a:ext cx="8102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مبنا و معیار برای تصمیم گیر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بیان کننده ارزش های مورد قبول جامعه و سازم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ایجاد انگیزه در کارکن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وسیله تغییر فرهنگ سازمان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تبیین ساختار ومحرک عملیاتهای تبدیل دورنما به واقعی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نقش و اهداف بيانية مأموريّت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5F0B-6455-4525-B6EE-9BC30F90C23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Rectangle 3"/>
          <p:cNvGrpSpPr/>
          <p:nvPr/>
        </p:nvGrpSpPr>
        <p:grpSpPr>
          <a:xfrm>
            <a:off x="1006560" y="2451240"/>
            <a:ext cx="7242120" cy="2912760"/>
            <a:chOff x="1006560" y="2451240"/>
            <a:chExt cx="7242120" cy="2912760"/>
          </a:xfrm>
        </p:grpSpPr>
        <p:pic>
          <p:nvPicPr>
            <p:cNvPr id="594" name="Rectangle 3" descr=""/>
            <p:cNvPicPr/>
            <p:nvPr/>
          </p:nvPicPr>
          <p:blipFill>
            <a:blip r:embed="rId1"/>
            <a:stretch/>
          </p:blipFill>
          <p:spPr>
            <a:xfrm>
              <a:off x="1006560" y="2451240"/>
              <a:ext cx="724212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038240" y="2482920"/>
              <a:ext cx="7175520" cy="28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گرايش يكسان در تمام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تفاهم در ارتباط با ايده‏ها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منبع الهامي در ارتباط با فعّاليّت‏هاي روزمر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عامل هدايتي و گرايشي كاركنان در راستاي اهدا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09120" y="2357280"/>
            <a:ext cx="2319480" cy="3052800"/>
          </a:xfrm>
          <a:prstGeom prst="rect">
            <a:avLst/>
          </a:prstGeom>
          <a:solidFill>
            <a:srgbClr val="04617b"/>
          </a:solidFill>
          <a:ln w="38160">
            <a:solidFill>
              <a:srgbClr val="004e6d"/>
            </a:solidFill>
            <a:miter/>
          </a:ln>
        </p:spPr>
        <p:txBody>
          <a:bodyPr anchor="ctr">
            <a:normAutofit fontScale="94000"/>
          </a:bodyPr>
          <a:p>
            <a:pPr marL="501480" indent="-5014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محيط داخلي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بع مال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يروي انسان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زاريابي و فرو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مليات و تولي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قيق و توسعه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راتژي جار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643720" y="2357280"/>
            <a:ext cx="3195360" cy="3052800"/>
          </a:xfrm>
          <a:prstGeom prst="rect">
            <a:avLst/>
          </a:prstGeom>
          <a:solidFill>
            <a:srgbClr val="dbf5f9"/>
          </a:solidFill>
          <a:ln w="38160">
            <a:solidFill>
              <a:srgbClr val="dbf5f9"/>
            </a:solidFill>
            <a:miter/>
          </a:ln>
        </p:spPr>
        <p:txBody>
          <a:bodyPr anchor="ctr">
            <a:normAutofit fontScale="95000"/>
          </a:bodyPr>
          <a:p>
            <a:pPr marL="506520" indent="-5065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محيط كلان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EST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سياس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قتصاد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جتماع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F9CA-DE23-41B3-BF6A-14CA8839E03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2928960" y="2357280"/>
            <a:ext cx="2709720" cy="3052800"/>
          </a:xfrm>
          <a:prstGeom prst="rect">
            <a:avLst/>
          </a:prstGeom>
          <a:solidFill>
            <a:srgbClr val="0bd0d9"/>
          </a:solidFill>
          <a:ln w="10080">
            <a:solidFill>
              <a:srgbClr val="21b2c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حيط رقابتي (پورتر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زه‏وا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ارك‏كنندگ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لا يا خدمت جانش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ق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695808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w Cen MT"/>
                <a:cs typeface="Arial"/>
              </a:rPr>
              <a:t>تعريف مديريت</a:t>
            </a:r>
            <a:endParaRPr b="0" lang="en-US" sz="60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971640" y="2286000"/>
            <a:ext cx="695808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 فعاليت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 منظم درجهت تحقق اهداف معين ازطريق ايجاد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ابط ميان منابع موجود، انجام دادن كا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مشاركت افراد ديگروشركت فعال در تصميم گيري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ABDA-2542-466B-BC96-6B277B9E19D3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03A2-C355-4DBE-97B1-C91D8753BDA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09120" y="2209680"/>
            <a:ext cx="8339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20000"/>
                </a:solidFill>
                <a:latin typeface="Times New Roman"/>
                <a:cs typeface="Times New Roman"/>
              </a:rPr>
              <a:t>براي شناخت محيط‏هاي سازماني ابتدا عوامل مربوطه شناسائي مي‏شوند</a:t>
            </a:r>
            <a:r>
              <a:rPr b="1" lang="fa-IR" sz="2000" spc="-1" strike="noStrike">
                <a:solidFill>
                  <a:srgbClr val="72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لاً عوامل سياسي مي‏تواند شامل موارد زير باشد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حمايت‏كنن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ك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ارتباط با ساير كشورها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خصوصي‏ساز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سپس جمع تعداد عوامل نيز مشخص مي‏شود. در مثال بالا جمع عوامل سياسي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مي‏باشد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كلان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PES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و رقابتي به‏عنوان، عوامل محيطي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Environmen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داخلي به‏عنوان منابع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Resources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در نظر گرفته مي‏شود</a:t>
            </a:r>
            <a:r>
              <a:rPr b="1" lang="fa-IR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يابي عوامل محيط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B678-0B0F-4342-BA09-6E77BAE4372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2514240"/>
            <a:ext cx="8339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ّم‏ترين قسمت برنامه‏ريزي استراتژيك بوده و به عواملي تأكيد دارد كه ظهور و بروز آن‏ها در اختيار سازمان و مديّريت نمي‏باش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660033"/>
                </a:solidFill>
                <a:uFillTx/>
                <a:latin typeface="Times New Roman"/>
                <a:cs typeface="Times New Roman"/>
              </a:rPr>
              <a:t>روش‏هاي ارزيابي عوامل محيطي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يزبيني يا پويش‏گر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cann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دياب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Trail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يش‏بين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orecast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ايش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Monitor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70BC-39BC-439B-ADA4-B4030E078A3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21384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387026"/>
                </a:solidFill>
                <a:latin typeface="Tw Cen MT"/>
                <a:cs typeface="Arial"/>
              </a:rPr>
              <a:t>تهیه ماتریس ارزیابی عوامل خارج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87026"/>
                </a:solidFill>
                <a:latin typeface="Tw Cen MT"/>
              </a:rPr>
              <a:t>External Factor Evaluation (EF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227664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الف – نگارش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فرصت و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تهدید بر اساس میزان واولویت تعیین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ا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عام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ب- تعیین ضری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برای کل عوامل خارج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ج – محاسبه رتبه برای هر یک از عوامل خارجی بر اساس وضعیت موج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بی تاثیر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2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کم،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متوسط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4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زی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د- محاسبه نمره برای هر یک 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 رتبه × ضریب÷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هـ محاسبه امتی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نمرات نهائی)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418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9900"/>
                </a:solidFill>
                <a:latin typeface="Tw Cen MT"/>
                <a:cs typeface="Arial"/>
              </a:rPr>
              <a:t>ماتریس ارزیابی عوامل خارجی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95DA-710C-4354-9BA2-1209CC4C31D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981000"/>
          <a:ext cx="8362800" cy="52117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871640"/>
                <a:gridCol w="317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نمر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رتب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ضری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عوامل خارجی </a:t>
                      </a:r>
                      <a:r>
                        <a:rPr b="1" lang="en-US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E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رصت 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ید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</a:t>
                      </a:r>
                      <a:r>
                        <a:rPr b="1" lang="fa-I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جمع ک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رزيابي عوامل درو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A3E9-D03E-4C1D-AE5C-E5F30C017C8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38080" y="23623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ارزيابي محيط داخلي سه متغير درنظر گرفته مي‏شود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منابع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n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ستراتژي جاري، فرهنگ سازماني، نقش و مأموريّت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ocess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عملكرد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ut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الا به پائين اطلاعات موجود كمتر مي‏شود و استفاده از نظرات ذي‏نفع‏ها در اين مورد كمك‏كننده خواهد بو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b02a00"/>
              </a:buClr>
              <a:buSzPct val="14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نقاط‏قوّتي كه نشان‏دهندة مهارت خاص باشند و لبة تيز رقابت سازمان را تعيين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نند </a:t>
            </a:r>
            <a:r>
              <a:rPr b="1" i="1" lang="ar-SA" sz="24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شايستگي بارز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stinction Competence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مي‏نامند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ارزیابی عوامل داخلی موثر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979280" y="2349360"/>
            <a:ext cx="259884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0021"/>
                </a:solidFill>
                <a:latin typeface="Tw Cen MT"/>
                <a:cs typeface="Arial"/>
              </a:rPr>
              <a:t>نقاط ضعف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w Cen MT"/>
              </a:rPr>
              <a:t>W</a:t>
            </a:r>
            <a:r>
              <a:rPr b="1" lang="en-US" sz="3200" spc="-1" strike="noStrike">
                <a:solidFill>
                  <a:srgbClr val="a50021"/>
                </a:solidFill>
                <a:latin typeface="Tw Cen MT"/>
              </a:rPr>
              <a:t>eakn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508360" y="2349360"/>
            <a:ext cx="267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6a3"/>
                </a:solidFill>
                <a:uFillTx/>
                <a:latin typeface="Tw Cen MT"/>
              </a:rPr>
              <a:t>S</a:t>
            </a:r>
            <a:r>
              <a:rPr b="1" lang="en-US" sz="3200" spc="-1" strike="noStrike">
                <a:solidFill>
                  <a:srgbClr val="0076a3"/>
                </a:solidFill>
                <a:latin typeface="Tw Cen MT"/>
              </a:rPr>
              <a:t>trength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7B3B-C0C9-4D09-9F90-0085111F37A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c9b74"/>
                </a:solidFill>
                <a:latin typeface="Times New Roman"/>
                <a:cs typeface="Times New Roman"/>
              </a:rPr>
              <a:t>شناسائی نحوه عملکرد سازمان در گذشته</a:t>
            </a:r>
            <a:r>
              <a:rPr b="1" lang="fa-IR" sz="3600" spc="-1" strike="noStrike">
                <a:solidFill>
                  <a:srgbClr val="0c9b74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AA77-21AB-4F35-95D9-DD526489423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13880" y="2428560"/>
            <a:ext cx="815364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سازمان پاسخگو نیاز گروه هدف بو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خدمات به نحو مناسب ارائه ش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تغییرات تاثیر گذار در سازمان اتفاق افتا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حال حاضر در رکود هستیم یا در پیشرفت؟(دلایل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برنامه توسعه کشور دارای چه سهمی هستیم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c9b74"/>
                </a:solidFill>
                <a:latin typeface="Tw Cen MT"/>
                <a:cs typeface="Arial"/>
              </a:rPr>
              <a:t>شناسائی عملکرد فعلی سازمان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:</a:t>
            </a:r>
            <a:r>
              <a:rPr b="0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9E18-1D95-445C-8648-5F938453A6C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12720" y="2428920"/>
            <a:ext cx="8153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در دست اقدام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مکمل و متضاد کدام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آیا نیازی به تداوم فعالیتها میباش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مبنای سنجش عملکرد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نگرش جامعه به عملکرد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83763"/>
                </a:solidFill>
                <a:latin typeface="Tw Cen MT"/>
                <a:cs typeface="Arial"/>
              </a:rPr>
              <a:t>شناسائی نقاط ضعف و قوت</a:t>
            </a:r>
            <a:r>
              <a:rPr b="1" lang="fa-IR" sz="4400" spc="-1" strike="noStrike">
                <a:solidFill>
                  <a:srgbClr val="08376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D499-0E16-4E72-B616-276D92C1E16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85480" y="2428560"/>
            <a:ext cx="85359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ظرفیت و توان فعلی مجموعه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 سازمان چيست و چگونه میتوان آنها را تقویت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ضعف سازمان چيست و چگونه میتوان آنها را رفع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موانع تامین نیاز وانتظارات مشتریان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تدوین استراتژی ها</a:t>
            </a:r>
            <a:r>
              <a:rPr b="1" lang="fa-IR" sz="4000" spc="-1" strike="noStrike">
                <a:solidFill>
                  <a:srgbClr val="03495c"/>
                </a:solidFill>
                <a:latin typeface="Tw Cen MT"/>
                <a:ea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18F6-057D-4548-9EC8-C6E4DB4DFBE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42600" y="1714320"/>
            <a:ext cx="807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هیه ماتریس ارزیابی عوامل داخل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ternal Factor Evaluation (IF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الف – نگارش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قوت و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ضعف براساس میزان و الوویت تعیین ش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ا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عامل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- تعیین ضریب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برای کل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ج – محاسبه رتبه برای هر یک از عوامل داخلی بر اساس وضعیت فعل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1-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ی تاثیر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کم،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متوسط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زیاد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د- محاسبه نمره برای هر یک 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رتبه × ضریب ÷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هـ محاسبه امتی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نمرات نهائ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 Function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ظايف مديريّت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23880" y="190512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عيين اهداف و روش دستيابي به آن‏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نظيم كارها، اختيارات و منابع بين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ea typeface="Traffic"/>
              </a:rPr>
              <a:t> </a:t>
            </a: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اعمال نفوذ و ايجاد انگيزه در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مقايسه فعّاليّت‏ها با استانداردها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71400" y="1484280"/>
            <a:ext cx="72673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برنامه</a:t>
            </a:r>
            <a:r>
              <a:rPr b="1" i="1" lang="fa-IR" sz="2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‏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يزي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lann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سازمان‏ده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Organiz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هبر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ead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كنترل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troll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2E59-FF22-43CF-BA15-A024640EF9A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ectangle 5"/>
          <p:cNvGrpSpPr/>
          <p:nvPr/>
        </p:nvGrpSpPr>
        <p:grpSpPr>
          <a:xfrm>
            <a:off x="633240" y="5608800"/>
            <a:ext cx="8255160" cy="1096920"/>
            <a:chOff x="633240" y="5608800"/>
            <a:chExt cx="8255160" cy="1096920"/>
          </a:xfrm>
        </p:grpSpPr>
        <p:pic>
          <p:nvPicPr>
            <p:cNvPr id="454" name="Rectangle 5" descr=""/>
            <p:cNvPicPr/>
            <p:nvPr/>
          </p:nvPicPr>
          <p:blipFill>
            <a:blip r:embed="rId1"/>
            <a:stretch/>
          </p:blipFill>
          <p:spPr>
            <a:xfrm>
              <a:off x="633240" y="5608800"/>
              <a:ext cx="8255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85800" y="5715000"/>
              <a:ext cx="8153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برنامه‏ريزي به‏سان لكوموتيوي است كه واگن‏هاي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سازمان‏دهي، رهبري و كنترل را به حركت در مي‏آور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ماتریس ارزیابی عوامل داخلی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290E-A977-4970-BBC5-E2EF362EED1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143000" y="1643040"/>
          <a:ext cx="7461360" cy="493704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7720"/>
                <a:gridCol w="440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نمر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رت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ضری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ارزیابی عوامل داخلی </a:t>
                      </a:r>
                      <a:r>
                        <a:rPr b="1" lang="en-US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I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قو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ضع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  </a:t>
                      </a: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جمع ک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2303e"/>
                </a:solidFill>
                <a:latin typeface="Tw Cen MT"/>
                <a:cs typeface="Arial"/>
              </a:rPr>
              <a:t>ماتریس توز  </a:t>
            </a:r>
            <a:r>
              <a:rPr b="1" lang="en-US" sz="4000" spc="-1" strike="noStrike">
                <a:solidFill>
                  <a:srgbClr val="02303e"/>
                </a:solidFill>
                <a:latin typeface="Tw Cen MT"/>
              </a:rPr>
              <a:t>TOW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4FC4-26C6-4BE4-91B1-8F233EC0E78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642960" y="1714680"/>
          <a:ext cx="8136000" cy="4714560"/>
        </p:xfrm>
        <a:graphic>
          <a:graphicData uri="http://schemas.openxmlformats.org/drawingml/2006/table">
            <a:tbl>
              <a:tblPr/>
              <a:tblGrid>
                <a:gridCol w="2776680"/>
                <a:gridCol w="2647800"/>
                <a:gridCol w="271152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ضعف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قوت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عنو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فرصت 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تهدید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1C59-C3A7-4003-9806-89CE2653784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71320" y="259920"/>
            <a:ext cx="778644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3495c"/>
                </a:solidFill>
                <a:latin typeface="Tw Cen MT"/>
                <a:cs typeface="Arial"/>
              </a:rPr>
              <a:t>قدم چهارم: تهیه ماتریس توز </a:t>
            </a:r>
            <a:r>
              <a:rPr b="1" lang="en-US" sz="2900" spc="-1" strike="noStrike">
                <a:solidFill>
                  <a:srgbClr val="03495c"/>
                </a:solidFill>
                <a:latin typeface="Tw Cen MT"/>
              </a:rPr>
              <a:t>TO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cs typeface="Arial"/>
              </a:rPr>
              <a:t>با کمک ماتـ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و وضعیت سازمان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IE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)، استراتـژی ها را مشخص نمائ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- مات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چهار نمونه استراتژی را به ما پیشنهاد میکن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1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 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O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عالی ترین وضعیت است و میتوان با استفاده از نقاط قو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 و فرصت ها سهم سازمان را در بازار افزایش داد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O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باید نقاط ضعف را کاهش داد واز فرصت ها بهره لازم برد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مانند انتخاب تکنولوژی جد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: از نقاط قوت استفاده کرده واز تهدیدها دوری کن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هدف کاهش نقاط ضعف و تهدیدها در حداکثر زمان ممکن است و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وضعیت بسیار وخیم میباشد پس باید دنبال انحلال ، ادغام، کاهش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عملیات و ... باشی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cs typeface="Arial"/>
              </a:rPr>
              <a:t>تهیه ماتریس داخلی و خارج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ternal External (IE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            3 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9/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2            1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داخلی</a:t>
            </a:r>
            <a:br>
              <a:rPr sz="16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br>
              <a:rPr sz="3200"/>
            </a:br>
            <a:r>
              <a:rPr b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1/2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</a:t>
            </a:r>
            <a:r>
              <a:rPr b="1" lang="fa-IR" sz="4400" spc="-1" strike="noStrike">
                <a:solidFill>
                  <a:srgbClr val="000000"/>
                </a:solidFill>
                <a:latin typeface="Tw Cen MT"/>
                <a:ea typeface="Arial"/>
              </a:rPr>
              <a:t> ×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br>
              <a:rPr sz="3200"/>
            </a:b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خارجی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7735-0831-4EAF-8145-0A19D5C5435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708360" y="2349360"/>
          <a:ext cx="4535640" cy="3384720"/>
        </p:xfrm>
        <a:graphic>
          <a:graphicData uri="http://schemas.openxmlformats.org/drawingml/2006/table">
            <a:tbl>
              <a:tblPr/>
              <a:tblGrid>
                <a:gridCol w="2260800"/>
                <a:gridCol w="2274840"/>
              </a:tblGrid>
              <a:tr h="161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96B9-65F6-4F84-9675-622590B3F88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1835280" y="177336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85600" y="213840"/>
            <a:ext cx="593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200" spc="-1" strike="noStrike">
                <a:solidFill>
                  <a:srgbClr val="04617b"/>
                </a:solidFill>
                <a:latin typeface="Tw Cen MT"/>
                <a:ea typeface="Jadid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F87C-48B1-4F0C-91D5-D881E140C1F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2437920"/>
            <a:ext cx="80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رزيابي گزينه‏هاي مختلف استراتژي:</a:t>
            </a:r>
            <a:r>
              <a:rPr b="1" i="1" lang="ar-S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ا معيارهاي انتخابي شامل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اثربخش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ارآي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مترين تاثيرات سوء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نتخاب يك استراتژ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16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توصيف سازمان در آينده و چشم‏انداز موفقيّت :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درصورت اجراي استراتژي انتخاب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مشخصات تصميم‏ها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F9F1-5C9A-4FB7-A8AC-FAABA2AD636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755640" y="1700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ر ارتباط با چشم‏انداز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تطابق با محيط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سازگاري فعاليّت‏ها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نابع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منابع سازمان تاثيرات عم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تصميمات عملياتي تاثي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تحت تاثير انتظارات و ارزش‏هاي افراد قدرتمند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جهت‏گيري درازمدّت سازمان تاثير مي‏گذ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طبيعت پيچي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66600" y="351000"/>
            <a:ext cx="6289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اه‏كارهاي استراتژي‏هاي اصلي</a:t>
            </a:r>
            <a:br>
              <a:rPr sz="2900"/>
            </a:b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eneric Strategy Alternatives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6034-3197-4C5B-AAA0-97E275FBC10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28400" y="2286000"/>
            <a:ext cx="8358120" cy="2743200"/>
          </a:xfrm>
          <a:prstGeom prst="rect">
            <a:avLst/>
          </a:prstGeom>
          <a:solidFill>
            <a:srgbClr val="e5f4e0"/>
          </a:solidFill>
          <a:ln w="76320">
            <a:solidFill>
              <a:srgbClr val="0b5395"/>
            </a:solidFill>
            <a:miter/>
          </a:ln>
        </p:spPr>
        <p:txBody>
          <a:bodyPr anchor="ctr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رشد يا تهاجم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Growth or Offensive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ثبات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ability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كاهش يا تدافع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Retrenchment or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Defensive</a:t>
            </a:r>
            <a:r>
              <a:rPr b="1" i="1" lang="en-US" sz="30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تركيب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Combination 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F6D9-D418-406E-9204-E28523A8FCB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AutoShape 4"/>
          <p:cNvGrpSpPr/>
          <p:nvPr/>
        </p:nvGrpSpPr>
        <p:grpSpPr>
          <a:xfrm>
            <a:off x="1852560" y="2352600"/>
            <a:ext cx="6181920" cy="2371680"/>
            <a:chOff x="1852560" y="2352600"/>
            <a:chExt cx="6181920" cy="2371680"/>
          </a:xfrm>
        </p:grpSpPr>
        <p:pic>
          <p:nvPicPr>
            <p:cNvPr id="659" name="AutoShape 4" descr=""/>
            <p:cNvPicPr/>
            <p:nvPr/>
          </p:nvPicPr>
          <p:blipFill>
            <a:blip r:embed="rId1"/>
            <a:stretch/>
          </p:blipFill>
          <p:spPr>
            <a:xfrm>
              <a:off x="1852560" y="2352600"/>
              <a:ext cx="6181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1973160" y="2473200"/>
              <a:ext cx="594036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115964"/>
                  </a:solidFill>
                  <a:uFillTx/>
                  <a:latin typeface="Times New Roman"/>
                  <a:cs typeface="Times New Roman"/>
                </a:rPr>
                <a:t>اجراي استراتژ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(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raffic"/>
                </a:rPr>
                <a:t>Strategy Implementation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تدوين برنامة عمليات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A67A-0576-4FD2-9FF7-97FAB689368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26560" y="1928520"/>
            <a:ext cx="741708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عد از انتخاب استراتژي اصلي سازمان، استراتژي مزبور به يك طرح عملياتي ترجمه مي‏شود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: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(شامل  اهداف كمّي،  طرح،  تخصيص منابع،  و  بودجه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ضمناً خط‏‏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شي، روش‏ها و مقررات (برنامه‏هاي جاري) نيز تدوين مي‏شود و سازمان‏دهي و مسائل انگيزش كاركنان و اتخاذ سبك رهبري مناسب نيز در نظر گرفته مي‏شود</a:t>
            </a:r>
            <a:r>
              <a:rPr b="1" lang="fa-IR" sz="3100" spc="-1" strike="noStrike">
                <a:solidFill>
                  <a:srgbClr val="000000"/>
                </a:solidFill>
                <a:latin typeface="Tw Cen MT"/>
                <a:ea typeface="Traffic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2D0B-9694-4359-9270-CEB1F0E82945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"/>
          <p:cNvSpPr/>
          <p:nvPr/>
        </p:nvSpPr>
        <p:spPr>
          <a:xfrm>
            <a:off x="2743200" y="2438280"/>
            <a:ext cx="1295280" cy="2743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 flipV="1">
            <a:off x="6248520" y="1828800"/>
            <a:ext cx="1218960" cy="2819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493200 h 2819520"/>
              <a:gd name="textAreaBottom" fmla="*/ 2044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4114800" y="4724280"/>
            <a:ext cx="2666880" cy="99072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 flipH="1">
            <a:off x="3505320" y="1295280"/>
            <a:ext cx="2666880" cy="1067040"/>
          </a:xfrm>
          <a:custGeom>
            <a:avLst/>
            <a:gdLst>
              <a:gd name="textAreaLeft" fmla="*/ 466920 w 2666880"/>
              <a:gd name="textAreaRight" fmla="*/ 1933920 w 26668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195800" y="857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ffic"/>
              </a:rPr>
              <a:t>برنامه‏ري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 flipV="1">
            <a:off x="2212920" y="281952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سازمان‏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66480" y="579132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Traffic"/>
              </a:rPr>
              <a:t>رهب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104960" y="281952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cc"/>
                </a:solidFill>
                <a:latin typeface="Times New Roman"/>
                <a:cs typeface="Traffic"/>
              </a:rPr>
              <a:t>كنتر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3733920" y="2819520"/>
            <a:ext cx="2666880" cy="1523880"/>
          </a:xfrm>
          <a:prstGeom prst="ellipse">
            <a:avLst/>
          </a:prstGeom>
          <a:gradFill rotWithShape="0">
            <a:gsLst>
              <a:gs pos="0">
                <a:srgbClr val="c5ecff"/>
              </a:gs>
              <a:gs pos="100000">
                <a:srgbClr val="adcfe0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دستيابي به ا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762120" y="9144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تباط وظايف مديريّ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9EC1-677A-4480-9E0A-4BC95CA6564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42960" y="2000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200"/>
                </a:solidFill>
                <a:latin typeface="Times New Roman"/>
                <a:cs typeface="Times New Roman"/>
              </a:rPr>
              <a:t>پيش‏بيني و تعيين مراحل و توالي فعّاليّت‏هاي لازم براي تأمين اهداف استراتژيك از طريق وسايل (تاكتيك‏ها)، به‏تفكيك زمان، هزينه، نيروي انساني لازم، برنامه‏ريزي عملياتي ‏ناميده مي‏شود</a:t>
            </a:r>
            <a:r>
              <a:rPr b="1" lang="fa-IR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انوا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جار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anding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تكراري و روز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يك‏بار مصرف يا مداخله‏ا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ngle-Use or Interventional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</a:t>
            </a:r>
            <a:r>
              <a:rPr b="1" i="1" lang="ar-SA" sz="2400" spc="-1" strike="noStrike">
                <a:solidFill>
                  <a:srgbClr val="00005c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استثنايي، غيرتكراري، مانند طرح‏ها 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Projects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357200" y="214200"/>
            <a:ext cx="64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برنامه‏ريزي عملياتي يا اجرايي</a:t>
            </a:r>
            <a:r>
              <a:rPr b="1" lang="ar-SA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Operational Planning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راحل برنامه‏ريزي عملياتي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8ECD-E96A-4060-A09F-A081A29EE59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26920" y="1699920"/>
            <a:ext cx="79250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r" rtl="1">
              <a:spcBef>
                <a:spcPts val="700"/>
              </a:spcBef>
              <a:buClr>
                <a:srgbClr val="115964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b050"/>
                </a:solidFill>
                <a:latin typeface="Tw Cen MT"/>
                <a:ea typeface="Titr Mazar"/>
              </a:rPr>
              <a:t> </a:t>
            </a:r>
            <a:r>
              <a:rPr b="1" i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جزيه و تحليل وضعيّت موجود</a:t>
            </a:r>
            <a:r>
              <a:rPr b="1" i="1" lang="fa-IR" sz="3600" spc="-1" strike="noStrike">
                <a:solidFill>
                  <a:srgbClr val="115964"/>
                </a:solidFill>
                <a:latin typeface="Tw Cen M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طرق نيل (استراتژي‏ها) به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فعّاليّت‏هاي لازم براي هر استراتژ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بيان شرح تفصيلي هر فعّاليّ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شيوه پايش و ارزشياب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جزيه و تحليل وضعيّت موجود منطق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42DA-6B7B-416F-804F-B99860C2D84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621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عيين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مورد لزو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جمع‏آوري داده‏ه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 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 لاز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نظام ثبت و گزارش جاري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بررسي‏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ه</a:t>
            </a:r>
            <a:r>
              <a:rPr b="1" lang="ar-SA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ا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ي مقطعي</a:t>
            </a:r>
            <a:r>
              <a:rPr b="1" lang="fa-IR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n-CL" sz="23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urvey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جزيه و تحليل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ه‏منظو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آ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ز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 (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خ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ص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ة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ف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ح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ظ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لويت‏بندي مشكل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Line 4"/>
          <p:cNvSpPr/>
          <p:nvPr/>
        </p:nvSpPr>
        <p:spPr>
          <a:xfrm flipV="1">
            <a:off x="7772400" y="2971440"/>
            <a:ext cx="0" cy="762120"/>
          </a:xfrm>
          <a:prstGeom prst="line">
            <a:avLst/>
          </a:prstGeom>
          <a:ln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عيين اهداف برنامه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660E-2E06-454C-AD7B-C8F06EDF845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14240" y="2071800"/>
            <a:ext cx="7848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Goals or Main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كل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اتوجه به مشكلات اولويّت‏دار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مأموريت سازمان، به‏صورت كلي، غير كمّي و جهت‏دار 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Objectives or Specific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اختصاص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جزاي تشكيل دهنده هدف كلي را به‏صورت مشخص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قابل سنجش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ي‏سازد. بدين وسيله برنامه قابل ارزشيابي مي‏گرد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هميّت اهداف برنام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8013-C71A-4DC3-81EE-A37562B02A9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9640" y="1844280"/>
            <a:ext cx="82296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سير و جهت حركت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ح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ز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‏را مشخص مي‏كن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وجب تمركز تلاش‏ها و هماهنگي فعّاليّت‏ها مي‏گرد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صميمات را رهنمو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بب ايجاد انگيزه براي اجراي عمليات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ر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ه)،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رزشيابي برنامه را ممكن مي‏ساز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كاتي كه در تعيين اهداف مي‏بايستي رعايت شود</a:t>
            </a:r>
            <a:r>
              <a:rPr b="1" lang="fa-IR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F98D-900B-400F-9328-2E5F7781EE0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09480" y="1828440"/>
            <a:ext cx="830592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عوامل مؤثر بر بروز مشكلات وتوجه به شرايط محيطي، منابع داخلي و آيند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وجه به واقعيّات </a:t>
            </a:r>
            <a:r>
              <a:rPr b="0" i="1" lang="fa-IR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تعيين اهداف دست‏يافت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مّي كردن اهداف (منظور كردن قيد زما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عيين اهداف با مشاركت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مقصد و چشم‏انداز نهايي واولويّت‏بندي اهداف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‏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خ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ث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264600"/>
            <a:ext cx="87868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خصوصيات اهداف اختصاصي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ecific Objective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7AEC-B973-440D-848B-DB18543003E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قابل اندازه‏گير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M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asur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ست‏يافتن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A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ttain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مرتبط با هدف كل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R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levan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اراي زمان مشخص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ime-bounded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Oval 4"/>
          <p:cNvSpPr/>
          <p:nvPr/>
        </p:nvSpPr>
        <p:spPr>
          <a:xfrm>
            <a:off x="1600200" y="4419720"/>
            <a:ext cx="6553080" cy="2133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c2e00"/>
                </a:solidFill>
                <a:uFillTx/>
                <a:latin typeface="Times New Roman"/>
                <a:cs typeface="Traffic"/>
              </a:rPr>
              <a:t>به‏طور كلي 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اهداف اختصاصي بايد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raffic"/>
              </a:rPr>
              <a:t>SMART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باش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3000240" y="20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3643200" y="257184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2928960" y="30002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2971800" y="3581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2214720" y="35719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Strategies)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استراتژي‏ه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4A48-DA94-4CBF-B1ED-2628549E81A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91404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3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w Cen MT"/>
                <a:ea typeface="Traffic"/>
              </a:rPr>
              <a:t> </a:t>
            </a:r>
            <a:r>
              <a:rPr b="1" lang="fa-IR" sz="28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ستراتژي يعني تعيين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طريق يا روش رسيدن به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4617b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اي تعيين استراتژي‏ها مي‏توان از عوامل مؤثر بر ايجاد اهداف اختصاصي استفاده نمود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با استفاده از شبكه عليّت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استراتژي‏هاي انتخابي نيز همانند اهداف، جهت انتخاب،  مي‏بايستي اولويّت‏بندي شو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استراتژي‏ها برخلاف اهداف حالت كمّي ندار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Activitie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فعّاليّت‏ها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00A0-B37C-49DC-9FF8-BA0252780C7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28600" y="1523520"/>
            <a:ext cx="86868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32011"/>
                </a:solidFill>
                <a:latin typeface="Times New Roman"/>
                <a:cs typeface="Times New Roman"/>
              </a:rPr>
              <a:t>هدف از برنامه‏ريزي تبديل اهداف به فعّاليّت‏ها مي‏باش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 u="sng">
                <a:solidFill>
                  <a:srgbClr val="000062"/>
                </a:solidFill>
                <a:uFillTx/>
                <a:latin typeface="Times New Roman"/>
                <a:cs typeface="Times New Roman"/>
              </a:rPr>
              <a:t>انواع فعّاليّ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جاري: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ف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ّ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ّ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ز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ط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آ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ئ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ص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گ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مداخله‏اي</a:t>
            </a:r>
            <a:r>
              <a:rPr b="1" lang="fa-IR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:</a:t>
            </a: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براساس مشكلات خاصّ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و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غ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، 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ن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ج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برنامه عملياتي مي‏بايستي شامل هر دو نوع فعّاليّت‏ 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005c"/>
              </a:buClr>
              <a:buSzPct val="9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عّاليّت‏هاي جاري در بخش جدول تفصيلي به فعّاليّت‏هاي مداخله‏اي اضافه مي‏شو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فعّاليّت‏ها را نيز مي‏توان، عوامل مؤثر بر استراتژي‏ها، درنظر گرف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10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عّاليّت‏ها نيز مي‏بايستي اولويت‏بندي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ش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رح تفصيلي فعّاليّت‏ها (سازمان‏دهي فعّاليّت‏ها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E250-18DE-4602-95F4-BB752EF4FBC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09480" y="1828800"/>
          <a:ext cx="8305920" cy="47340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14400"/>
                <a:gridCol w="1219320"/>
                <a:gridCol w="761760"/>
                <a:gridCol w="990720"/>
                <a:gridCol w="914400"/>
                <a:gridCol w="990720"/>
                <a:gridCol w="609480"/>
              </a:tblGrid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محل تأمين اعتب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ل هزين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شيو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ة پاي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اقدامات پشتيب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جا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زمان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كسي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چيز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ردي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تعریف برنامه ریزی</a:t>
            </a:r>
            <a:r>
              <a:rPr b="1" lang="fa-IR" sz="4400" spc="-1" strike="noStrike">
                <a:solidFill>
                  <a:srgbClr val="04617b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D4E0-1CE5-4502-97BA-79E45890DBA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928520"/>
            <a:ext cx="8115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بارت است از تهيه و توزيع و تخصيص 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کانات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حدود براي رسيدن به هدف هاي مطلوب، در حداقل زمان و با حداقل هزينه ممكن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فرايند دستيابي به اهداف سازمان اس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AutoShape 2"/>
          <p:cNvSpPr/>
          <p:nvPr/>
        </p:nvSpPr>
        <p:spPr>
          <a:xfrm>
            <a:off x="2286000" y="4643280"/>
            <a:ext cx="4857840" cy="1236960"/>
          </a:xfrm>
          <a:prstGeom prst="cloudCallout">
            <a:avLst>
              <a:gd name="adj1" fmla="val 162"/>
              <a:gd name="adj2" fmla="val 57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برنامه ريز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6357960" y="4000680"/>
            <a:ext cx="785880" cy="618840"/>
          </a:xfrm>
          <a:prstGeom prst="ellipse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هد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627280" y="4143240"/>
            <a:ext cx="639720" cy="444600"/>
          </a:xfrm>
          <a:prstGeom prst="rect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فعالي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3276720" y="4365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دول زمان‏بندي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ime Table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C671-5DE6-4CF2-9AA4-F2D8EE51B61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2120" y="1752120"/>
            <a:ext cx="8076960" cy="4605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مهمترين و متداول‏ترين جدول زمان‏بندي مورد استفاده جدول گانت مي‏باشد كه قدمت آن به يك قرن مي‏رس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ابزار سودمند مديريّتي براي برنامه‏ريزي و كنترل (پايش فعّاليّت‏ها) مي‏باشد كه ترتيب زماني فعّاليّت‏هاي پيش‏بيني (برنامه‏ريزي) شده و فعاّليّت‏هاي انجام‏گرفته را نشان مي‏ده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نمودار ستوني است كه زمان در محور افقي  و فعّاليّت‏ها در محور عمودي آن قرار گرفته‏ان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ستون‏هاي نمودار نشان‏دهندة نتيجة كار در يك مدّت معين است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براي تهية نمودار گانت ابتدا كلية فعّاليّت‏هاي هر استراتژي ليست شده، سپس موعد و مدّت زمان هر فعّاليّت پيش‏بيني مي‏شود و براساس تقدّم زماني، جدول گانت رسم مي‏گرد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درحين اجراي برنامه، فعّاليْت‏هايي كه عملاً انجام گرفته‏اند نيز در جدول ، براي مقايسه (پايش) و انجام اقدامات اصلاحي، مشخص مي</a:t>
            </a:r>
            <a:r>
              <a:rPr b="1" lang="ar-SA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‏شوند 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جدول گانت</a:t>
            </a:r>
            <a:r>
              <a:rPr b="1" i="1" lang="ar-SA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Gantt Chart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598B-FFC0-4987-9806-2A8E9890EB8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85800" y="2133720"/>
          <a:ext cx="8153280" cy="345420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914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07" name="Line 75"/>
          <p:cNvSpPr/>
          <p:nvPr/>
        </p:nvSpPr>
        <p:spPr>
          <a:xfrm flipH="1">
            <a:off x="6934320" y="3657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Rectangle 76"/>
          <p:cNvGrpSpPr/>
          <p:nvPr/>
        </p:nvGrpSpPr>
        <p:grpSpPr>
          <a:xfrm>
            <a:off x="2651040" y="5761080"/>
            <a:ext cx="4230720" cy="1017720"/>
            <a:chOff x="2651040" y="5761080"/>
            <a:chExt cx="4230720" cy="1017720"/>
          </a:xfrm>
        </p:grpSpPr>
        <p:pic>
          <p:nvPicPr>
            <p:cNvPr id="709" name="Rectangle 76" descr=""/>
            <p:cNvPicPr/>
            <p:nvPr/>
          </p:nvPicPr>
          <p:blipFill>
            <a:blip r:embed="rId17"/>
            <a:stretch/>
          </p:blipFill>
          <p:spPr>
            <a:xfrm>
              <a:off x="2651040" y="5761080"/>
              <a:ext cx="42307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2743200" y="58672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raffic"/>
                </a:rPr>
                <a:t>   </a:t>
              </a:r>
              <a:r>
                <a:rPr b="1" lang="ar-SA" sz="2400" spc="-1" strike="noStrike">
                  <a:solidFill>
                    <a:srgbClr val="0b5395"/>
                  </a:solidFill>
                  <a:latin typeface="Times New Roman"/>
                  <a:ea typeface="Titr Mazar"/>
                </a:rPr>
                <a:t>×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مي‏بايستي انجام شو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انجام شده‏اس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Line 77"/>
          <p:cNvSpPr/>
          <p:nvPr/>
        </p:nvSpPr>
        <p:spPr>
          <a:xfrm flipH="1">
            <a:off x="6172200" y="6477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2D2F-2381-437D-A20D-BD06DFC68D2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1908000" y="1773360"/>
            <a:ext cx="624852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10080">
            <a:solidFill>
              <a:srgbClr val="0bd0d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b5395"/>
                </a:solidFill>
                <a:uFillTx/>
                <a:latin typeface="Times New Roman"/>
                <a:cs typeface="Times New Roman"/>
              </a:rPr>
              <a:t>ارزشيابي و كنتر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شيابي و كنترل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7988-1473-4737-9ED1-1A6C4C830DF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928800" y="192888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a50021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80808"/>
                </a:solidFill>
                <a:latin typeface="Times New Roman"/>
                <a:cs typeface="Times New Roman"/>
              </a:rPr>
              <a:t>انطباق نتايج با اهداف برنامه و اقدامات اصلاحي درصورت لزوم در اجزا برنامه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از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Vision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تا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ion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از نظ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ساختار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ucture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سيستم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ystem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رفتار </a:t>
            </a: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ehavior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 بدون تعيين استراتژي نبايد در ساختار، سيستم و رفتار تغيير ايجاد نمود</a:t>
            </a:r>
            <a:r>
              <a:rPr b="1" lang="fa-IR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6939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5F3B-389E-4DE0-8282-5CDD33AD25D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761760" y="1828800"/>
            <a:ext cx="792468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ارزشيابي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valuation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سنجش ميزان تحقق اهداف (اختصاصي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پايش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ing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نطباق فعّاليّت‏ها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ي در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ح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ل اجرا با استانداردهاي برنام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9610-461F-4995-8378-C6FF258F199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1447920" y="3809880"/>
            <a:ext cx="914400" cy="533520"/>
          </a:xfrm>
          <a:prstGeom prst="rect">
            <a:avLst/>
          </a:prstGeom>
          <a:gradFill rotWithShape="0">
            <a:gsLst>
              <a:gs pos="0">
                <a:srgbClr val="cccecf"/>
              </a:gs>
              <a:gs pos="100000">
                <a:srgbClr val="f9fbfd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"/>
          <p:cNvSpPr/>
          <p:nvPr/>
        </p:nvSpPr>
        <p:spPr>
          <a:xfrm>
            <a:off x="23623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26668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b5b9be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0384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cad0d5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51055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410080" y="3809880"/>
            <a:ext cx="1371600" cy="533520"/>
          </a:xfrm>
          <a:prstGeom prst="rect">
            <a:avLst/>
          </a:prstGeom>
          <a:gradFill rotWithShape="0">
            <a:gsLst>
              <a:gs pos="0">
                <a:srgbClr val="cfd9e2"/>
              </a:gs>
              <a:gs pos="100000">
                <a:srgbClr val="e4eef8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6781680" y="411480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7086600" y="3809880"/>
            <a:ext cx="1066680" cy="533520"/>
          </a:xfrm>
          <a:prstGeom prst="rect">
            <a:avLst/>
          </a:prstGeom>
          <a:gradFill rotWithShape="0">
            <a:gsLst>
              <a:gs pos="0">
                <a:srgbClr val="c6cdd4"/>
              </a:gs>
              <a:gs pos="100000">
                <a:srgbClr val="eaf2fa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1214280" y="28584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راساس مدل زنجيره‏ا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AutoShape 12"/>
          <p:cNvGrpSpPr/>
          <p:nvPr/>
        </p:nvGrpSpPr>
        <p:grpSpPr>
          <a:xfrm>
            <a:off x="1395360" y="2792520"/>
            <a:ext cx="3762360" cy="938160"/>
            <a:chOff x="1395360" y="2792520"/>
            <a:chExt cx="3762360" cy="938160"/>
          </a:xfrm>
        </p:grpSpPr>
        <p:pic>
          <p:nvPicPr>
            <p:cNvPr id="734" name="AutoShape 12" descr=""/>
            <p:cNvPicPr/>
            <p:nvPr/>
          </p:nvPicPr>
          <p:blipFill>
            <a:blip r:embed="rId1"/>
            <a:stretch/>
          </p:blipFill>
          <p:spPr>
            <a:xfrm>
              <a:off x="1395360" y="2792520"/>
              <a:ext cx="3762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1752480" y="3308400"/>
              <a:ext cx="1828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03000"/>
                  </a:solidFill>
                  <a:latin typeface="Times New Roman"/>
                  <a:cs typeface="Traffic"/>
                </a:rPr>
                <a:t>پاي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AutoShape 13"/>
          <p:cNvGrpSpPr/>
          <p:nvPr/>
        </p:nvGrpSpPr>
        <p:grpSpPr>
          <a:xfrm>
            <a:off x="3986280" y="2792520"/>
            <a:ext cx="4219560" cy="938160"/>
            <a:chOff x="3986280" y="2792520"/>
            <a:chExt cx="4219560" cy="938160"/>
          </a:xfrm>
        </p:grpSpPr>
        <p:pic>
          <p:nvPicPr>
            <p:cNvPr id="737" name="AutoShape 13" descr=""/>
            <p:cNvPicPr/>
            <p:nvPr/>
          </p:nvPicPr>
          <p:blipFill>
            <a:blip r:embed="rId2"/>
            <a:stretch/>
          </p:blipFill>
          <p:spPr>
            <a:xfrm>
              <a:off x="3986280" y="2792520"/>
              <a:ext cx="4219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753160" y="3308400"/>
              <a:ext cx="2057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raffic"/>
                </a:rPr>
                <a:t>ارزشياب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‏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4C4E-9642-440E-8379-ABC443EB26B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68360" y="1981080"/>
          <a:ext cx="8447040" cy="4267440"/>
        </p:xfrm>
        <a:graphic>
          <a:graphicData uri="http://schemas.openxmlformats.org/drawingml/2006/table">
            <a:tbl>
              <a:tblPr/>
              <a:tblGrid>
                <a:gridCol w="2111400"/>
                <a:gridCol w="2112840"/>
                <a:gridCol w="1879560"/>
                <a:gridCol w="2343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تناو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عم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زما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وسع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يك‏بار مص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ingle U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ك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جهت‏ د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Directional)</a:t>
                      </a: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لند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ng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استراتژي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trateg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جا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tand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تفصي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خا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pecif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وتاه 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hort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عمليّ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Operation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واع برنامه براساس سطوح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BA24-1215-4ED8-8FF4-F9DFE3420D6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99680" y="1642680"/>
            <a:ext cx="83250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استراتژيك</a:t>
            </a:r>
            <a:r>
              <a:rPr b="1" lang="ar-SA" sz="2600" spc="-1" strike="noStrike" u="sng">
                <a:solidFill>
                  <a:srgbClr val="003300"/>
                </a:solidFill>
                <a:uFillTx/>
                <a:latin typeface="Tw Cen MT"/>
                <a:ea typeface="Jadid"/>
              </a:rPr>
              <a:t> </a:t>
            </a:r>
            <a:r>
              <a:rPr b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Strategic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تعيين اهداف بلندمدّت و حياتي سازمان و طريقه نيل به آن، با توجه به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عوامل محيطي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و با درنظر گرفتن آينده سازمان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تاكتيكي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actic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اتخاذ تصميم‏هاي كوتاه مدّت براي حداكثر بهره‏وري از منابع موجود باتوجه به تحوّلات محيط. دراين نوع برنامه‏ريزي </a:t>
            </a:r>
            <a:r>
              <a:rPr b="1" i="1" lang="ar-SA" sz="22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وسايل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ans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لازم براي تحقق اهداف استراتژيك مشخص مي‏شود و اين كار سبب هماهنگي واحدهاي سازماني مي‏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در اين حالت تلاش جهت حصول به</a:t>
            </a:r>
            <a:r>
              <a:rPr b="1" i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ين نتايج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ست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اثربخشي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عملياتي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peration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عمليات (فعّاليّت‏هاي) لازم جهت نيل‏به اهداف استراتژيك، ازطريق وسايل (تاكتيك‏هاي) تعيين‏شده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در اين حالت تلاش جهت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 انجام دادن كارها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ي‏باشد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كارآيي</a:t>
            </a:r>
            <a:r>
              <a:rPr b="1" i="1" lang="ar-SA" sz="2200" spc="-1" strike="noStrike">
                <a:solidFill>
                  <a:srgbClr val="9e0606"/>
                </a:solidFill>
                <a:latin typeface="Tw Cen MT"/>
                <a:ea typeface="Traff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 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7ECC-37A5-4713-B440-33947076617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1928520"/>
            <a:ext cx="81043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w Cen MT"/>
                <a:ea typeface="Arial"/>
              </a:rPr>
              <a:t>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جام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رنامه ريزي خطوط راهنماي كلي و جهت گيري كلي سازمان را مشخص مي سازد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برنامه ريزي عمليات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ملياتي به فعل درآوردن تصميمات و چهارچوب هاي تعيين شده توسط برنامه ريزي جامع اس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ر برنامه جامع جهت تحقق نيازمند برنامه عملياتي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كيب برنامه ريزي جامع و عملياتي را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تلفيق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ي گويند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6:24:56Z</dcterms:created>
  <dc:creator>DELAVAR</dc:creator>
  <dc:description/>
  <dc:language>en-US</dc:language>
  <cp:lastModifiedBy>banijamali</cp:lastModifiedBy>
  <dcterms:modified xsi:type="dcterms:W3CDTF">2021-05-16T07:45:13Z</dcterms:modified>
  <cp:revision>106</cp:revision>
  <dc:subject/>
  <dc:title>Slide 1</dc:title>
</cp:coreProperties>
</file>